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7EF37A-8473-46C3-9162-C0EBB65D35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A8D625-F9D3-41FA-9D90-200D98178D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6920A2-4468-4911-864F-224CF3D2A2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0A4306-3FF3-4B87-BF6D-1F782F93B8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E53E3BB-FE2B-4154-ADAE-2D49227D4CE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AE2E57-D4BD-4774-B3F0-34150C1C17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77FD92-A1B0-4AC1-B311-85D7BBE68F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95E91D-6DF6-49D7-9F03-85D8A78EA1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694B9A-D1C7-4F2D-B162-C6D551EDF7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E09D67-718B-4FE4-8BE2-CD3E2F6004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FE617B-36DA-41D9-906F-6099337000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204E9F-05A1-4F83-A1B4-261B3F71EB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04A5DE-23B1-4FC2-AD12-AAE92DFD98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34AB94-FC63-474C-8862-0FFD911D63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8B0E3C-2F4B-41FF-88C6-8538D49756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4BCB36A-3CD8-40C6-83B3-B288150E5AF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803176E-B96C-4B24-ACF3-308C7FA8740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F441EB-D4E0-4D56-BA0F-63C98756BF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CC92C3-D06C-4786-836F-BBD30D72C9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884BCC-1F58-46E5-BF4A-36FF12210E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1B34FB-2595-4FD2-BA07-54EA37ECFD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434782-F42F-4832-B938-B03A705E29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10B24A-EA0D-40DD-80A3-B642970EE3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115D81-8609-446E-B97B-CF2763E63C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EE4EF2-CC1C-49C6-9733-0BFDFD5BA57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0F0AF2-3CC6-40B3-B70E-795D2CDB263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FD12CD3-1D25-4AF5-8996-1FFA5052BCE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F870179-8674-45C8-8CB2-EE29AE5045A8}"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1D149C-FA00-44BD-8338-B2F0B188B40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62D690-FD81-4DD9-8421-14EDFBB744BE}"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CF77E8-4D9D-4990-8208-507ACFA1F6E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BAE12E-D3AB-49D8-8F4F-592190BD277D}"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B65B34-B79D-4875-A555-5E28DDBFCDF6}"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23EDDA-1297-420E-B3E1-32A16434A03B}"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BC9410-99AF-45F9-8BA3-F00E7E8A719C}"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B2A985-2E38-4C8B-B2E6-003A4455ABCB}"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0E159A-75AC-40ED-9BCA-249406F755CA}"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7CFEF2-F394-4B8B-8681-A384E100D416}"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1B750E-F51D-4145-8923-6EFF870A1B33}"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3C6BE6-7BC2-4C71-AC48-21FD5CC2A674}"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52B16B-5E43-451B-B207-362C267FC67F}"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38E96D-476E-4E7A-8942-620ABFCBF168}"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41C15C-70AA-4F4F-9887-2C9C7387E756}"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F8468A-BFC1-4228-84A0-5AFE6BE9DF8E}"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869847-CEF2-42C0-8612-1C2EF5B54621}"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6E2F5A-698F-426D-AB8E-B79E8DD11207}"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97144A-882F-41F5-8BC2-E00A6E5DB24C}"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AF21FB-E729-4578-AEBD-9E3B54F2CC21}"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2CA2C9-EBF0-4D2F-9039-0767A291F7C8}"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C9656F-EDC2-4114-B0D6-EC3F794A69D6}"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554F64-D129-490E-A691-FB17CA6F5E5F}"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0EC1E2-ED8D-49DF-8533-E4A349CA0D0A}"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EBB76B-D408-43D8-B6E2-1C7893BD9F19}"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FA32612-3B77-4EBA-B40F-9C7F9B07ED39}"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E68CE2-3D22-40B0-B3F8-B3E539B562F4}"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669225-F00E-4F05-80EF-667D7747B96A}"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C4773E-AD31-4D68-86F9-E773CED407F8}"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599F89-5226-4DA4-A896-37C95CA82DBF}"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9F002F-1268-4C1A-B56F-CD96F5A7769A}"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934A75-BF94-4627-B7F1-5914932D4855}"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DEF401-B61F-49A9-BDB3-B0FA686FA72D}"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9918E0-5AB9-48EE-9B85-3E6A04F4D97E}"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5E2B26-2916-47D1-9713-814F112FDADB}"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B60150-A2ED-45E3-87CB-B74B825C4FF0}"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685614-D25F-4860-846D-78A688B7E6F9}"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F7A7C3-5803-4167-8513-07AC71839F98}"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CA90F0-007D-48BB-B730-F0C131996F6A}"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303C38-52F1-48AD-8843-6BA8270D351D}"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FD7DAE-6F9B-44B1-8D73-4D6C963EA6D4}"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4AFEAD-5FAC-4DD2-9ADC-6B0722A875A1}"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93A2FD-FF4B-41D2-8D54-503AAB5DE29B}"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809D7F-91C7-462F-B541-32F8F5856BAC}"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4310AC-DD30-4E95-898F-0CE4B6DC93F5}"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0A0C3A-C9F7-44AE-9B87-736F377BAAE7}"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A46DF6F-E826-42A8-ADD2-AB8042A78E6D}"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3E78EA-B262-4889-B663-B1AA0EDB9447}"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94EE50-20B7-458B-A089-9237CBCA387F}"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2335739-48D2-431D-B933-A38DBB17F9D5}"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D607EC-B21C-4EA3-A777-70D1F60A61EA}"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FB4A7B-482D-43B6-8E72-1C3B7381AB26}"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3BFDEE-433B-492F-9504-5CEF045E2D27}"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E458DA-6C2D-46DB-9553-3488E9B6F602}"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1CC9D9-E346-48E4-9FC8-8A7AE922001F}"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0E68B8-BA6B-494B-B641-81C818EA9D3F}"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85236E-BC3F-4260-8CD9-3207E4A462F0}"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33E123D-9035-402B-9246-14DF92FAC46A}"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816E46-8028-4E06-B0D5-73EDF8CCED53}"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FF60E0-7B87-4EE5-9AF7-4C0F5466A63F}"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F549C9-C19F-4E3E-8656-C33BD9DCFBC7}"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9C09E4-EA57-4938-981E-5805676CB618}"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EB298B-3E7F-4FB1-821B-474A2C1C524F}"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67B3640-EB7E-4D79-8B0D-156408B44278}"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8730E9-D12D-4C9D-82ED-4C969D9056EF}"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81E07E-F004-4E54-9CB8-33B666E4AE87}"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CA5B21-9FD3-4C30-BE17-0C1C66ED3B38}"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691D86-E5A5-406E-AEBE-7FD6F3DE2891}"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EB24CEB-018C-43CC-9810-710BA8B6E2B8}"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8D903A-8FBD-4D5B-B992-77AEFEBF1B22}"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288551-4200-4A19-9C49-7D1D6BA84ADC}"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A1F797-8EFB-4DD0-BCBE-5CA7A305005D}"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87AC0C-42E1-4679-8D28-29AB20EBAF36}"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DB6F25-EE71-4626-B15B-E1EA6AA11114}"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C39138-0D2F-4C16-A47D-4549D6EC7D2E}"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1F3CA9B-1CCE-40E7-95B9-4766AC02A442}"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5B7916-48C3-47DC-88F7-5C3EDC641115}"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32C36F-EF85-446B-959D-262A8BB56CDB}"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D7F60F-2AC2-4ECA-8B39-2AD190AC8DF1}"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6DBE9EE-736F-4BC2-BC03-1F1B0430C93C}"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F391FC-9E0E-4C95-8EF3-B8C53E23455E}"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ED49A9A-2618-40DE-81DF-71F2D4E1A68F}"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ACB276-2693-4582-BEC6-F198A3C3DD9D}"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34BEEE-EDD4-4D17-8650-D67A0F5C6ABC}"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F8E1C2-D066-4577-978C-E909379FF5CC}"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044E9A-E915-4E1B-A826-1D2AA00BEF64}"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770CF1-9292-4584-8C81-1B814C79F2C9}"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6FCFED-DE27-4507-B3A9-468F3640F232}"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69AA96-90D4-4955-8A7D-3B108B6A3EFE}"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B81812-8E0A-4EC5-84D0-4A03686C801E}"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1C995E-5DBB-42D6-91D1-419429163F1E}"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AB8EFC-2D6B-4F4F-8946-48571DFA407E}"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CF823F-01AB-4FC8-8C73-39235F8BC69A}"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40DEC8-CD59-4DFE-8E08-CD6209B06B0C}"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3032C2-0DC2-4F85-BD0F-3F19D600866A}"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159DFF-14E2-4AC8-8C2F-163B65896BBD}"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FE8F52-E917-431E-A1BF-E70FA396B5DB}"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94B4506-3834-44DC-A379-9A567974ED80}"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EC08BD-5769-4468-BBBB-F72CFB2C44BE}"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2C5C44-6984-42C1-BBE5-36E87AA5D688}"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D6D93D-310F-4A93-B971-1040BDD3DA9F}"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FE2B00-0BF8-47BB-9FC6-614ABBCB3FCE}"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691F6C-55D3-4F5E-B978-4F11769713AD}"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50AD23-3C34-4EF5-A0C3-BE5927338A3B}"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98B790-37D1-4D51-8B5E-1CF054466C28}"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49309B-EB7F-4C8C-A852-5F6FB366DB8F}"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B81799-A11B-4D96-8FF3-59DE0C53CEF9}"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DAEA72-AD61-40EE-B52A-98A8E894C8F8}"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823A92-D57D-4F7A-952D-AAB8E6F8D363}"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1D719B-C6D8-488F-BB1D-C6AE7B1382A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D370A0-139E-46F9-AE9B-B697E188304F}"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FA891B-CF28-4A7B-940A-07911A013766}"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6A9ADA-768A-4874-9F34-CB9BB88889D8}"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42B718-590A-4DC4-9478-E19900E04BD4}"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7A2DFE-A10F-4E17-9A48-A78E475519F9}"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2B3ED8-4B27-4224-A334-68B7FE01A57E}"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EDBEF8-CE17-479D-9E4A-37C97A49B239}"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F1018F-6949-4F2F-8C39-61386693D57C}"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DD3CFF-EC72-4D7C-806D-A09F50458C23}"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095540-DE69-4461-A828-750FCD8C78A7}"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77DFCB-FAD6-444C-8B56-38E1557B44B1}"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C1A245-3A47-42B3-B669-6509F5BD6431}"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9B1607-A512-43BE-972C-95B376540F9E}"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C22EA6-9E2E-4E7F-8989-EF1522A3F412}"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954DC1-615A-4C26-B83D-68131E1CFF0B}"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5AB3EB5-8DC8-44A6-BF62-BBFBE5C86E53}"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3123B1-30A4-4ADE-984E-38B3CE0D929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FD4BEE-AD71-4F4D-9DA2-57792E55EC7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59C8AE-5582-41FB-A312-D5B8956E6D7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E80B19-4026-44D0-AFFD-B09F93AE46C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2C3779-2529-4379-967E-17CCDE400CE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B9D561-60A3-4D9A-BCE3-F0E8BBF583C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788983C-0035-43FE-B961-528A5F83B40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D9F771-00CE-47CF-8E2F-CE2092C3517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7B2A2B-D2F2-4B1B-B391-4C29D273690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F42551-1F67-4284-BD70-996A6CA4115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DC9D7A-CFBA-4CC8-88C9-78C13343D7F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4EEB78-A32A-429F-A5E7-7E56438EACC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F7BDE5-1530-4886-908F-30536234075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E33151-7F4C-4C03-BC73-9D46DAB138C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0E9633-9DDD-435F-9AED-E5E2FE0C3E6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2656DE-234C-4C63-BE8F-7AEDA1AD9DC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10AD6E-7C2E-4DAC-A449-885093E6701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94BC91-14D3-45EF-AEA1-86ED3E55F2E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526C83-E824-402D-8C3B-B076FCEE9FF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AB3277-5184-490B-BE94-E4C7644090D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DCA706-85D0-4D19-92E2-7710B507E80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29F634-FEAF-46DB-A5CD-61052997523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3047BA-9155-4A3D-B360-AB8460924BB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B64114-AFA6-42C5-824C-07097ED12CF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19CDB8-0160-4E0F-9CEC-2CB147AC0E7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D36D3C-0323-4202-A8F6-C5CEF1F9E89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D2D616-59BF-40C8-A22F-CB988B7B1A4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679020-5652-40BB-ABA6-393BAD0BEF7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32AB1B-ABA2-446A-9FEF-B121A128673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261212-FAA5-4DB6-AB0A-445520D2CFB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B16335-0CA1-424C-8820-C36B5E44697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08DF1F-E203-4655-A113-00C756FB266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0E7DD5-7F80-4AC7-8FFF-92BE3875E90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7224D8-B40D-4FEE-BED0-4BCFE4C4810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792CE4-85AB-4835-83D2-9CCBBB141C0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52F3D0-C414-4683-9EAE-C9D463C47D6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38C58C-069E-4F1A-AD35-77AC6AE402C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2ADFB7-326A-4076-B35C-52E04A013412}"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249892-DA11-4F67-8F99-0E81DFFE453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1D9120-E895-4235-869A-CC6769E5153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94B82D-14E2-40A2-93D8-D648006EC47D}"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4ADAFC-A327-46D0-BE74-5E98A238EB6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F0AF5C-A013-49CE-B57D-14E85CBF11DC}"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636BAF-2BE8-41A5-A6C2-71B3249AACC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C5D7BF-E350-45C3-A53D-99AE98C16F8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7011FA-2F91-4452-A894-39BC64017F0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AF5DE0-F346-4A5F-A0AC-644314DA3CC7}"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44354C2-00A1-4BDA-8243-9E6589C14F8F}"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1F7DC1-C2C7-473C-B6C0-1606FB54EA84}"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B9CDA2-BA45-4360-891B-AD1ECB60AE86}"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4935E2-6DF3-4F15-BFB7-D48ED10F735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EBA76D-6584-41A3-8106-6E0372C9606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FBBC7A-FE54-4F7F-A0AD-584ECC93B454}"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0FC8F7-D36D-4A55-BCB9-726C4CD1AF12}"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2C4C0D-E74E-4B0B-809D-F23BEA518534}"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88152D-6513-4EF8-96E0-E2D3D24C1716}"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6D1640A-B002-4AB5-A550-9129CFCD532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F58E4D-F0D2-4364-9CCF-22DA0A552CD9}"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65EC67-E772-4C2E-9098-D2E3E292042D}"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4AACD5-FB87-40F8-B6FC-AF4B1AAD22D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4336F3-F1DF-4FB6-B9CF-ED663FF04BBF}"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65525C-C64E-450E-84AC-7AC0AD596E4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C17E9E-4490-4E0F-A863-AFC359EDE98B}"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43DB70-910E-4093-AA3C-1249866C245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8EE621-3A0B-44FD-B482-A4CB413014D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4EB10D-8BB1-41F1-ADF2-AC7E77CC47FD}"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620115-2485-42AE-A7FF-CC5EE2A6402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78DE9F-C1E2-41D6-A737-0726CA8AB03D}"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966601-F0AC-4EEE-B037-BF72850301AA}"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FD9182-1B94-44EA-A563-F24D305981C8}"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B521A1-C6D0-421F-9AEA-BC375E4782AC}"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C74C061-63B8-4666-B419-9ACE14B92910}"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740914-E162-4405-9718-516097C58332}"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D2A822-9E34-434B-AA1E-8BC0A5625FBE}"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FF92FB-58A8-402E-BB9E-FFF0CFE94006}"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9DCFA9-1017-4FCE-B04C-8486E5ADF4F4}"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0E8567-51AD-4D93-9F62-2233D0690EF8}"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9D3BE8-996B-4EFD-859F-8FFA993423D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0B0654-873B-47C0-84CB-CA0C6BC13E4A}"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39C20C-6100-4BD9-B831-9F2A5A66EE35}"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9E9BD8-F8B6-496B-9FBF-C68BCEC136BA}"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217325-4CF5-480E-852A-1472EA8B835F}"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47600B-A159-4AC0-8FBD-570A20A03A95}"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97E21B-79F8-4DE6-8422-82BB0335A40F}"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28B421-3E2F-4C81-BAF5-006655C8FF8E}"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