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51014"/>
        <c:axId val="6920636"/>
      </c:barChart>
      <c:catAx>
        <c:axId val="26651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636"/>
        <c:crosses val="autoZero"/>
        <c:auto val="1"/>
        <c:lblAlgn val="ctr"/>
        <c:lblOffset val="100"/>
        <c:noMultiLvlLbl val="0"/>
      </c:catAx>
      <c:valAx>
        <c:axId val="6920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51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496-B343-48B2-B1CF-B1F353F9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459-4AD0-420E-82F4-0AF59CC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57B-4EC5-4A12-8408-924FDE90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DE1-87CC-4C46-83C6-B2844AD3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C5C-8E63-4852-8D92-40F26EA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D71-2C63-402D-9B56-A5D13578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CA9-185F-49B5-B3CB-853ADA01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E4C-6491-4B44-ACD5-4901922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089-269D-4CD1-AE39-9BED9998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4CD-9AE2-4BB8-9466-BEB9DF14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D5E-733D-4D44-86C4-61D275E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EDA-4E3C-440B-96EC-AF2FD2F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47FB1-C40B-467B-A988-4A041E5FFF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