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46859"/>
        <c:axId val="86326906"/>
      </c:barChart>
      <c:catAx>
        <c:axId val="68246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26906"/>
        <c:crosses val="autoZero"/>
        <c:auto val="1"/>
        <c:lblAlgn val="ctr"/>
        <c:lblOffset val="100"/>
        <c:noMultiLvlLbl val="0"/>
      </c:catAx>
      <c:valAx>
        <c:axId val="86326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46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F10-5087-448A-AC10-7FEA3B85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DC4-EEBA-4961-8D1A-76F63D4C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0BC-6883-43DB-AA33-54101BB3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35F-6BFA-408A-A87F-A73C40C7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2BD-28CC-4121-979F-B747A01D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7B5-3894-43CC-9246-BB35F867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2CA-2A70-4C2F-8242-AFE294E9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89C-F92B-4EFA-BDE0-6AA8ADB5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FE9-4BC1-427B-A6FD-94F4CA28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831-DBC4-452F-A421-F038A316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1C6-CDDF-45EB-B42C-EC54CEF3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FA1-07D7-462E-820A-6B643C7D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6DD90-4866-414A-9AA6-6D677F9850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