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54275"/>
        <c:axId val="27966629"/>
      </c:barChart>
      <c:catAx>
        <c:axId val="65054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6629"/>
        <c:crosses val="autoZero"/>
        <c:auto val="1"/>
        <c:lblAlgn val="ctr"/>
        <c:lblOffset val="100"/>
        <c:noMultiLvlLbl val="0"/>
      </c:catAx>
      <c:valAx>
        <c:axId val="27966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54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409-BD34-4984-A498-5550B934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DB0-FD4E-446F-8E5E-59F33485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815-EEA2-4F57-8546-1808D18A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348-78FD-4358-B2EE-245AF05A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B00-9112-4230-9471-2CD86BB0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D65-8852-4606-AFAF-8C9E6D95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C2C-BDC2-453D-A4B1-A81FD2C0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513-FD15-4D09-92BA-99987F0A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A3F-3851-4082-A01A-FBFEE27F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2FA-B79A-4911-88C4-2C3E6319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6CB-5010-45A8-BE21-FF92CE3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F56-1B22-4583-99BA-BC139F45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86189-9182-4421-97B8-D7630DD47C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