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23501"/>
        <c:axId val="56760212"/>
      </c:barChart>
      <c:catAx>
        <c:axId val="98223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60212"/>
        <c:crosses val="autoZero"/>
        <c:auto val="1"/>
        <c:lblAlgn val="ctr"/>
        <c:lblOffset val="100"/>
        <c:noMultiLvlLbl val="0"/>
      </c:catAx>
      <c:valAx>
        <c:axId val="56760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23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1BCD-5B16-4E26-8CB7-2E9ACF4D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692-AB54-4CE9-B558-CE13AF06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2E0-1F21-4C49-8E8C-8DCFCA6A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AA7-5A12-4264-85BB-57D200BF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99E-DB72-4269-AB85-09A72550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63A-D813-4382-8586-D7CAF69B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30B-0C87-49EA-9BD7-4C340909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B21-B92F-4AA9-BAF2-785572AA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EAC-9123-4E89-8154-7E74D886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C4A-38B8-4FC0-9106-5B1853F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47E-3A1A-489C-BB54-5AB9A505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EC5-6F39-426E-BE40-7CB21D20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AF794-BF1D-4A1D-B9A4-E25C78A854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