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878322"/>
        <c:axId val="40879123"/>
      </c:barChart>
      <c:catAx>
        <c:axId val="178783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79123"/>
        <c:crosses val="autoZero"/>
        <c:auto val="1"/>
        <c:lblAlgn val="ctr"/>
        <c:lblOffset val="100"/>
        <c:noMultiLvlLbl val="0"/>
      </c:catAx>
      <c:valAx>
        <c:axId val="408791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783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1EF1-6CB9-450B-AF14-D93933C0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75C9-CED0-4176-9D9A-0EEEBC12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9194-B00A-47DC-812F-8A057F8B8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D54E-503B-45E9-A79B-EDE90A33F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E5B5-F9B0-4F85-8AE7-174F1AD0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BAB5-B5AA-4B20-AEFC-F9EABC80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8547-40F4-48AF-8B60-FBE775A4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DD67-A0C0-4304-8D7E-E3ED614D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79FF-50C8-4F98-B972-EA4FDE1D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6A81-722C-4A9A-A053-9FEC1DC1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655F-3440-42FF-A1D6-3C341C91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7FF6-C679-4188-839B-C195D4F4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AE54C-6FE1-4104-9320-80FDC396FC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