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17907"/>
        <c:axId val="66696228"/>
      </c:barChart>
      <c:catAx>
        <c:axId val="37017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96228"/>
        <c:crosses val="autoZero"/>
        <c:auto val="1"/>
        <c:lblAlgn val="ctr"/>
        <c:lblOffset val="100"/>
        <c:noMultiLvlLbl val="0"/>
      </c:catAx>
      <c:valAx>
        <c:axId val="66696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17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E52-2AAB-4676-B2C1-ACA4F7F9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CB8-DEFA-45E1-9279-D2A7436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FCD-9D7A-43CD-B879-6865FDDA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949-0005-4CA9-A8FE-CB1B69DC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BC2-B27C-4B9B-9A92-80AF0D74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A82-1486-4B53-9283-3634A545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150-3913-4AE8-86D0-B73A2E9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B55-BBA6-4CE1-A264-82B5FA8D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6D3-42D0-4765-95AB-D4F48C81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794-0F87-4595-AE11-53AA161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8DA-F9C7-4677-BECE-CCAE9B4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295-5447-46F9-94D0-A04F0B77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C6F59-CB47-4153-9154-E1BD8482F9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