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65630"/>
        <c:axId val="90215290"/>
      </c:barChart>
      <c:catAx>
        <c:axId val="25365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15290"/>
        <c:crosses val="autoZero"/>
        <c:auto val="1"/>
        <c:lblAlgn val="ctr"/>
        <c:lblOffset val="100"/>
        <c:noMultiLvlLbl val="0"/>
      </c:catAx>
      <c:valAx>
        <c:axId val="90215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65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481-D395-4A59-888A-BE3A798F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603-3704-4BF8-AC40-CE1A2AA9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873-A4C5-428E-8443-084999C0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E99-B45A-4E47-AE86-D21267FC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7FAC-0D38-4659-9181-F2A87730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20A-2975-40D2-ACD5-2BD8E724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C7C-0A35-4C12-897E-3648C6A1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8EB-20DD-47D3-802A-BF20B3FD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6D9D-3DF7-4F7A-AF8C-67645213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B5F-7B53-419D-B221-6D27C069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07B1-36D5-40CB-A03C-18A18283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263-A9D3-4CB8-84BA-39C13707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91920-5C7B-4690-85BE-F422BD8A3B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