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27305"/>
        <c:axId val="83535267"/>
      </c:barChart>
      <c:catAx>
        <c:axId val="59327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35267"/>
        <c:crosses val="autoZero"/>
        <c:auto val="1"/>
        <c:lblAlgn val="ctr"/>
        <c:lblOffset val="100"/>
        <c:noMultiLvlLbl val="0"/>
      </c:catAx>
      <c:valAx>
        <c:axId val="83535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27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3DB-A0F8-4CCA-80F0-8095EE5B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0A2-0E37-41FD-84BC-8BF37669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2AD-F807-4C7E-9526-71BB87A9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33C-D558-4B97-B4E7-302EC54C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DF8-D49B-4CA7-B6D2-9AFBE827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5CB-AEB4-4CDF-867F-B6D096F2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4E2-8EDC-459F-9493-76136994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8AA-C0B8-4835-B41F-7E85F715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D3A-3BB8-4ED6-AABF-3D7B1FE3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4F8-E3C5-4ECD-98A9-A590CE3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1AC-2DBE-48BD-8572-D698AB58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D76-30D6-4338-8278-38B8A640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186D1-97F6-4DBF-8125-6816C1D22E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