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43285"/>
        <c:axId val="86227256"/>
      </c:barChart>
      <c:catAx>
        <c:axId val="31943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27256"/>
        <c:crosses val="autoZero"/>
        <c:auto val="1"/>
        <c:lblAlgn val="ctr"/>
        <c:lblOffset val="100"/>
        <c:noMultiLvlLbl val="0"/>
      </c:catAx>
      <c:valAx>
        <c:axId val="86227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43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F4A-EE50-45F1-845C-F90051A6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081-0393-4D77-BB38-67E00B7E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BCD-29A4-4CE0-872C-831FC785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C28-9258-4DB4-8DB8-4E95B39B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C74-08BE-46E4-BC32-611C466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6D7-F9DA-4F3C-9624-5ECC75B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6B4-C31A-42E0-A829-C3300FB5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303-CBEC-47A6-ADF3-21C08BBD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8CC-37F0-413A-8A27-54D226B4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EBB-015E-4F19-8937-7373734B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F0A-9BE1-4601-ACC4-8BCD3C9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ADC-695C-426E-8FE0-96998D5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5A522-EF99-4955-879A-564E07CBA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