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81756"/>
        <c:axId val="69785847"/>
      </c:barChart>
      <c:catAx>
        <c:axId val="66581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85847"/>
        <c:crosses val="autoZero"/>
        <c:auto val="1"/>
        <c:lblAlgn val="ctr"/>
        <c:lblOffset val="100"/>
        <c:noMultiLvlLbl val="0"/>
      </c:catAx>
      <c:valAx>
        <c:axId val="69785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81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D70-943B-43DA-88AF-EF3653E4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A9E-3044-4DED-A857-484755A3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C5F-DC3A-4C18-98D9-6DF09A59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E68-9B3C-4EE1-B8A8-B28F3095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D9D-CEFB-4834-A654-4269ACFC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EB8-74CD-41B6-B716-62855D7F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E19-ED05-4429-B5F9-2DD01D03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BAC-DF8B-42DE-BEFA-F7B0AB2F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7C2-31B9-4AD6-B36D-EBF1BC48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5A9-2024-4A7C-AEDF-A9ABE34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11E-FB38-40F3-B171-5CE96A2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C9E-BF0F-4218-B0ED-64EE621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571B0-5DF8-416C-A2E4-4A976E7431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