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95524"/>
        <c:axId val="9834045"/>
      </c:barChart>
      <c:catAx>
        <c:axId val="30595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4045"/>
        <c:crosses val="autoZero"/>
        <c:auto val="1"/>
        <c:lblAlgn val="ctr"/>
        <c:lblOffset val="100"/>
        <c:noMultiLvlLbl val="0"/>
      </c:catAx>
      <c:valAx>
        <c:axId val="9834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5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1B8-ABE9-459D-87F4-854FF5DC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AE0-CADC-45FB-9EEA-DE08AC3A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955-3BD1-4C9D-B032-53E447C5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9AF-E3C9-404A-98D4-BFFF9743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398-247B-4328-850B-ACB9B43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9F4-9BF3-4619-B9AD-718CEB50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88F-D09A-4C53-91CC-811CA11F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147-20BE-4FB7-B1FC-00B9C4D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750-7B47-40C8-8806-C2159BA8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CA7-2862-4E6C-8529-B2E0B76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5F1-87A7-4B5B-848C-566C5100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304-D3AA-44B8-9475-85B02ED9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FE0E4-7170-40B9-82F5-E81508AC4A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