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39975"/>
        <c:axId val="68300029"/>
      </c:barChart>
      <c:catAx>
        <c:axId val="78039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00029"/>
        <c:crosses val="autoZero"/>
        <c:auto val="1"/>
        <c:lblAlgn val="ctr"/>
        <c:lblOffset val="100"/>
        <c:noMultiLvlLbl val="0"/>
      </c:catAx>
      <c:valAx>
        <c:axId val="68300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39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6A1-0933-44F0-BCBA-636C97CF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005-769A-4868-9A48-88C44038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24E-5713-4AF8-AA4B-B8D9857A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310-B7CD-45BF-B84C-67FF3348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CCE-AA45-45DB-B6DE-64378E31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250-1355-4409-B196-77702051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C86-2DD1-4894-A402-1508EB04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2AB-8787-40AE-B873-32E7F227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55F-6A3E-4020-83F8-E9252783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4C5-7ED9-4852-A351-3BC99544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041-499B-4895-ACA7-A67EEFC7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414-15D4-4521-B1F9-7E7CB7A9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B2CEB-4DDC-40FC-92EF-B91EDFEB49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