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18343"/>
        <c:axId val="73939496"/>
      </c:barChart>
      <c:catAx>
        <c:axId val="98418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9496"/>
        <c:crosses val="autoZero"/>
        <c:auto val="1"/>
        <c:lblAlgn val="ctr"/>
        <c:lblOffset val="100"/>
        <c:noMultiLvlLbl val="0"/>
      </c:catAx>
      <c:valAx>
        <c:axId val="73939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8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3DB-D6CA-4576-849E-AB5D755A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BBC-17E8-485B-9030-FF9EE6A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C90-8C63-4288-95BF-5A31DF27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4CA-1F0B-460B-86BE-331F600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683-E684-43F0-A7D0-CCB2F3C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957-887B-43A6-BC78-CD292FB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C67-24E2-4B61-8900-CBB41BA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B10-177E-4D9B-9483-3EB8034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931-1F72-4FAD-B6C2-AF3C935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4F1-846F-456A-9474-B1D1610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DE6-1F18-4BE8-B5D0-32B9FC3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D42-A491-4E49-B9C1-021F13E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049FA-FA97-4594-8239-0D1680676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