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21533"/>
        <c:axId val="4982782"/>
      </c:barChart>
      <c:catAx>
        <c:axId val="85821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2782"/>
        <c:crosses val="autoZero"/>
        <c:auto val="1"/>
        <c:lblAlgn val="ctr"/>
        <c:lblOffset val="100"/>
        <c:noMultiLvlLbl val="0"/>
      </c:catAx>
      <c:valAx>
        <c:axId val="4982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21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E5B-5CCB-431C-89BA-8F1443B5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C83-D971-4C31-A2D1-B369A43C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497-C16D-4DAF-82F5-5B835D63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0BE-88BB-43E6-A9A5-70E18227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651-271D-4688-ADDF-80465291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638-FA0F-4671-9D20-DCF8A1C4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837-09A6-4A15-9F1F-88575E5F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1C3-A45A-41E7-B6B0-F80D84A1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1A4-64C8-46C5-B0B3-767251A5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CA9-F71D-47F5-9114-CEC8344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DE9-F9A9-4FAF-951E-68944A4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2C3-2739-4396-90B0-8022CDF0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28AA1-D7F9-4BD6-A862-001C23E522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