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24188"/>
        <c:axId val="51322989"/>
      </c:barChart>
      <c:catAx>
        <c:axId val="68924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22989"/>
        <c:crosses val="autoZero"/>
        <c:auto val="1"/>
        <c:lblAlgn val="ctr"/>
        <c:lblOffset val="100"/>
        <c:noMultiLvlLbl val="0"/>
      </c:catAx>
      <c:valAx>
        <c:axId val="51322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24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517-FACC-451F-B008-D9F92447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D10-CEA9-49C9-A16D-ECAEE041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E06-BDEE-4A6C-8151-F43CA6DE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F4A-64D6-4B08-AF24-D6C89F9A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045-B486-4F17-8194-AE3C98E3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194-D679-4AAD-BE14-72DB28A0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26F-0E7D-4ADD-BEF4-CBF996BA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3B5-5FBC-4695-934E-2982C1D2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D82-B8AD-4D16-B40A-78DFF3BC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9D5-42BA-43F5-8450-F6F806D1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CF8-0CD3-4586-896C-3E0D6106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8E7-A624-46C4-B4BE-8E214214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F36A4-4061-430F-802D-0A2C945DDF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