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65091"/>
        <c:axId val="2004338"/>
      </c:barChart>
      <c:catAx>
        <c:axId val="42465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338"/>
        <c:crosses val="autoZero"/>
        <c:auto val="1"/>
        <c:lblAlgn val="ctr"/>
        <c:lblOffset val="100"/>
        <c:noMultiLvlLbl val="0"/>
      </c:catAx>
      <c:valAx>
        <c:axId val="2004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65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115-F89E-49EF-9C2A-302D48F6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FCC-B4C7-485D-8FF3-2582F47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DD3-CA66-4FD1-A268-86D1DA24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F30-BDC7-4B70-AFEC-ADE556F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54B-E078-49E9-9096-B884B1BE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AF2-753B-4DC0-BE4E-E6528B4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4BF-06C5-481A-9CB9-D07063E8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BE0-BB27-4C6E-AB68-2CA849D7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AD8-2AE5-4E18-8B40-3170E4F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EBF-A925-4F10-862C-88FADAE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286-F013-4369-825B-C1611ED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6A4-1BF6-4D84-9163-E02B444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4FE7F-A38C-49CF-811B-93F025C17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