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54759"/>
        <c:axId val="51275338"/>
      </c:barChart>
      <c:catAx>
        <c:axId val="88054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5338"/>
        <c:crosses val="autoZero"/>
        <c:auto val="1"/>
        <c:lblAlgn val="ctr"/>
        <c:lblOffset val="100"/>
        <c:noMultiLvlLbl val="0"/>
      </c:catAx>
      <c:valAx>
        <c:axId val="51275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54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CF3-5C81-45F9-8B8C-F2C130F8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041-8820-48DB-AD10-DA355962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B45-E8D9-467B-9677-AAA354F9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882-C8A3-4830-985A-745BA9AA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E95-7613-4EAE-89EC-E86758F8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2AA-D3E4-442F-9A4F-3B04170F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D54-68E2-44B4-BC86-2AA3F3D8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D1D-D1BF-4D5D-856B-5E35CF3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15C-3F2C-4A5A-9995-D4AED08F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59D-A71A-42CB-BD9A-2D12932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716-023D-429F-B293-1D994CD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A2E-7A1B-47FF-BF9B-E96039D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DDF32-98C4-438B-B811-0105525753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