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69500"/>
        <c:axId val="26954182"/>
      </c:barChart>
      <c:catAx>
        <c:axId val="73269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54182"/>
        <c:crosses val="autoZero"/>
        <c:auto val="1"/>
        <c:lblAlgn val="ctr"/>
        <c:lblOffset val="100"/>
        <c:noMultiLvlLbl val="0"/>
      </c:catAx>
      <c:valAx>
        <c:axId val="269541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69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022-2AE5-40D5-A014-360E7912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5D5-2BDD-4ED8-BFF0-58A37174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00B-6AD4-42C9-A979-A9AD5CFE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15C4-0354-415B-AE7D-D008511A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A3D-53E7-4506-93C1-A4057239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1F0-CA44-4702-B4B6-1E4E187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05E-326D-4365-A237-6612F40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FAF-DB88-4E06-B69B-D8977274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FA8-4037-40D8-ABD5-872A571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1F5-0504-43CE-A772-DF9B4A65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44F-DB3E-421B-A4EF-F0BA4F47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151-AAE8-4E4A-9B11-92110630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5CC01-CD97-4B48-BCE7-492D6CDD5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