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84318"/>
        <c:axId val="30912977"/>
      </c:barChart>
      <c:catAx>
        <c:axId val="14684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2977"/>
        <c:crosses val="autoZero"/>
        <c:auto val="1"/>
        <c:lblAlgn val="ctr"/>
        <c:lblOffset val="100"/>
        <c:noMultiLvlLbl val="0"/>
      </c:catAx>
      <c:valAx>
        <c:axId val="30912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84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FF1-C3ED-437A-8487-1927A2F3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36B-0248-4098-BB67-739D505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E95-2328-4977-B3B7-869E23FD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4F4-84A6-405E-9839-614DF9D5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5A4-45B2-4EE0-8AF3-AAB1C4D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704-864C-48C4-8C22-5B1168D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D1A-5DD2-4DFE-99DD-220AA486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A74-559D-4BB8-B945-71D6D28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C1D-1E92-4719-8841-49E5D163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613-EB51-4A0B-AB7E-95784DB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C94-D4BA-4C7C-81F9-2E429E7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460-08AA-47A8-B653-86D0A10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5BFF-A71B-405F-AF15-CC602DD67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