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74556"/>
        <c:axId val="81112673"/>
      </c:barChart>
      <c:catAx>
        <c:axId val="21474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12673"/>
        <c:crosses val="autoZero"/>
        <c:auto val="1"/>
        <c:lblAlgn val="ctr"/>
        <c:lblOffset val="100"/>
        <c:noMultiLvlLbl val="0"/>
      </c:catAx>
      <c:valAx>
        <c:axId val="81112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4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CA2-0EF5-4592-9C36-E415326D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E8C-D150-465F-AB4B-0417FB9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BDD-E02F-478F-A968-1D5A55F6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288-6500-40C6-85D2-E1E1860B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121-2D7B-4A61-876F-D3B233E3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6F5-16CD-4F0E-87B3-3D32ABF7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2F9-080E-4851-8237-10A0F92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970-90D6-4D3B-9F82-61120FA1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BC8-B275-4ADF-A259-C6003642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80A-1020-46A9-8117-48C1E5B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565-08A8-47FE-A4F8-91E6A45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728-B5DF-475E-9FDA-1F357EA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00B33-5354-4D49-B12A-BF1D0AC1B8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