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205305"/>
        <c:axId val="2538847"/>
      </c:barChart>
      <c:catAx>
        <c:axId val="142053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8847"/>
        <c:crosses val="autoZero"/>
        <c:auto val="1"/>
        <c:lblAlgn val="ctr"/>
        <c:lblOffset val="100"/>
        <c:noMultiLvlLbl val="0"/>
      </c:catAx>
      <c:valAx>
        <c:axId val="25388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053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A884-4669-441D-A12E-3305DCEF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1C26-A3DC-4186-9628-4036B82A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BB75-82C3-4A80-8A9E-C93FFC81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C297-62DD-423F-A188-0015AFFF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6E08-3504-4C18-8A95-965BB9D5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444A-FEE4-4748-89AF-EA3ECED1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582B-0687-4CAB-A93C-3F3AE360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5BD5-C938-40BD-B5E6-C5A71054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9AE6-9DEC-4D17-BA6E-061FA0E5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2AFA-B90A-44BC-9815-51B1B525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5187-4D16-42BA-9B39-7A3E487C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CE8F-AF75-40AE-9713-3C8C9E00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BA69B-18E5-4163-B18D-56B3FC0321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