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78773"/>
        <c:axId val="89988524"/>
      </c:barChart>
      <c:catAx>
        <c:axId val="84578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88524"/>
        <c:crosses val="autoZero"/>
        <c:auto val="1"/>
        <c:lblAlgn val="ctr"/>
        <c:lblOffset val="100"/>
        <c:noMultiLvlLbl val="0"/>
      </c:catAx>
      <c:valAx>
        <c:axId val="89988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78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2EE-5993-4DE9-AA8C-56EB5BAA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73D-D545-4641-8117-33A471B5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C9F-550E-4862-A6D3-6238DC98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C42-DEFE-409F-AF99-C87EBB6E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0CD-E96E-413E-9BCC-F7C18DF2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944-CBD9-4EEE-ACDE-6435DF5C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80B-21C8-4FFF-800E-F98270B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FB8-8E75-42AE-9C1E-D41215E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1EF-4B39-42F0-A8E0-91C4C281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86A-C9F5-4B83-85A9-D0380CCC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A6C-CD74-4BFF-A5CB-993A3800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CF4-71D6-46F3-9F18-14606AAE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1807C-7601-4D8D-AA00-B3AE076691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