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7595"/>
        <c:axId val="30516088"/>
      </c:barChart>
      <c:catAx>
        <c:axId val="29997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6088"/>
        <c:crosses val="autoZero"/>
        <c:auto val="1"/>
        <c:lblAlgn val="ctr"/>
        <c:lblOffset val="100"/>
        <c:noMultiLvlLbl val="0"/>
      </c:catAx>
      <c:valAx>
        <c:axId val="30516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7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0E2-96B4-48B5-B424-2605F2E7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5F3-C15F-4C9F-9048-960F21B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FE2-408D-47FC-8E20-5829D90E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F06-6B00-4447-AAB5-E7CB8C8E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C74-E4E1-49A6-8BD0-A78DC698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8A3-A30E-43C8-80B7-A14F4098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D7E-F7DD-4734-B4C6-7FF706A8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FFE-A6DF-4329-B9AB-B72847B3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7A-5CB9-42A1-8537-D5763A0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8B2-A948-4D01-BB14-0960418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93D-71AF-416E-B3BC-8508E68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071-EED5-426D-8435-5D306F9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5E0B8-6FC9-4D04-94A1-5553841D5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