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42322"/>
        <c:axId val="1413774"/>
      </c:barChart>
      <c:catAx>
        <c:axId val="26342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3774"/>
        <c:crosses val="autoZero"/>
        <c:auto val="1"/>
        <c:lblAlgn val="ctr"/>
        <c:lblOffset val="100"/>
        <c:noMultiLvlLbl val="0"/>
      </c:catAx>
      <c:valAx>
        <c:axId val="1413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42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656-AC6B-4124-9ABF-CC329CE2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81B-3D34-4F0A-9F23-4E8DFEAA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F10-FFC7-46A2-9702-38C0280D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52B-B349-4696-A6C5-A3A34FA4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19A-F60A-43D0-B4ED-B7953F57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3A4-ACF7-4719-A5BE-A03CC12F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33B-41CB-460F-BF96-59DBE49E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4D6-B998-44D1-93D9-731884CB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AA3-1DEA-4DD3-9511-A079CAEC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5D7-769C-494D-98C6-8F1F5AF1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BC8-5D7D-4006-8077-70F0A79A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69E-19F3-48B6-8A41-9916D51B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67505-11C4-4C7C-8371-FE4E13E5CE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