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9529"/>
        <c:axId val="97070827"/>
      </c:barChart>
      <c:catAx>
        <c:axId val="5459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0827"/>
        <c:crosses val="autoZero"/>
        <c:auto val="1"/>
        <c:lblAlgn val="ctr"/>
        <c:lblOffset val="100"/>
        <c:noMultiLvlLbl val="0"/>
      </c:catAx>
      <c:valAx>
        <c:axId val="97070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C2A-3F90-4505-88A8-8F6A276C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D29-DD8D-4ED3-8AC7-93BA42BD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5E3-039B-43F5-AC9D-742EFFD2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5ED-59FF-4360-B011-7D013CD6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457-9F49-4467-B047-530CEE9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BA5-032F-44B2-9D13-C86277A4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9F5-985D-4C86-ADE8-59DE90A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57B-B1DD-4BE5-9F10-91ABD2C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A12-4ABA-4E8F-B660-EA1327BD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C37-8213-4F78-A4EB-20281F47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181-4B1E-44D3-9DB8-49899BC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F10-E6A8-4B02-B906-10AE307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0C816-D5D4-4656-A8AA-2EDBC1961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