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791502"/>
        <c:axId val="11248227"/>
      </c:barChart>
      <c:catAx>
        <c:axId val="58791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48227"/>
        <c:crosses val="autoZero"/>
        <c:auto val="1"/>
        <c:lblAlgn val="ctr"/>
        <c:lblOffset val="100"/>
        <c:noMultiLvlLbl val="0"/>
      </c:catAx>
      <c:valAx>
        <c:axId val="11248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91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83F-769E-415B-A575-5AA2472B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928-08F3-46C3-A633-433C128B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2B2-D087-4AE7-A3B5-F6BE5114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B83-5C0E-472E-AB71-71FD7AA7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52AE-C303-4B1D-9E82-28484692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E2ED-EF3F-4559-9560-A2F3D9F2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C31C-D305-4544-93F0-5BC996F2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C40-244F-420A-AC05-011DCFA7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7DC5-7657-436B-BE35-78EB59F8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DABA-1969-4016-898E-920DE867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B52E-4D3F-430A-87D6-488335D5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F33-75C6-4E28-8116-A1C9613C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95881-0566-4F06-B4CB-C1CC89780D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