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7027"/>
        <c:axId val="47757715"/>
      </c:barChart>
      <c:catAx>
        <c:axId val="27967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57715"/>
        <c:crosses val="autoZero"/>
        <c:auto val="1"/>
        <c:lblAlgn val="ctr"/>
        <c:lblOffset val="100"/>
        <c:noMultiLvlLbl val="0"/>
      </c:catAx>
      <c:valAx>
        <c:axId val="47757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7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9A3-0601-40E3-BE99-0AE7E166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326-975D-4D20-9A85-55D09FF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E15-7DD7-40BE-AEA2-7EB44B00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ED7-1F1F-4847-9EFE-0823B0C0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667-FDD0-47AC-87FA-47EAB4BE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F03-7700-4056-9942-F5E7CC6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B10-F5B3-46D1-B31B-4E09AFE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6B8-143B-4167-957E-E2F8740D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83E-FE05-40D1-B112-9309A9E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B16-6769-4C7A-9288-231A878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7E3-1121-4D3D-BD35-6879598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213-1E37-497E-8005-50E73CD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621F9-F894-44D0-A986-B528370856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