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04301"/>
        <c:axId val="41991483"/>
      </c:barChart>
      <c:catAx>
        <c:axId val="97404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1483"/>
        <c:crosses val="autoZero"/>
        <c:auto val="1"/>
        <c:lblAlgn val="ctr"/>
        <c:lblOffset val="100"/>
        <c:noMultiLvlLbl val="0"/>
      </c:catAx>
      <c:valAx>
        <c:axId val="4199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04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833-EA81-4415-9EFB-C0F4D749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E26-2625-4CEA-92EC-DA78B32B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066-A3CF-43B1-B8F9-AEF6DB89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BF4-735F-48E3-965D-C48020DB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5FFF-3232-4F3D-B4E7-79075992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98B-11C5-4850-941D-3771A862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B33-5425-4E7E-B414-3D02FDE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BAE-4D32-495C-A541-F20FEF5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71E-0A5F-4D82-913A-6B7762A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483-3DF9-4E45-9F76-00494647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2F0-79F4-4136-BFEC-605D0779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B4A-53C3-4069-A1F9-21DF5FD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C0335-21DB-4E9A-8720-FA667607F4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