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04125"/>
        <c:axId val="9660330"/>
      </c:barChart>
      <c:catAx>
        <c:axId val="88304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0330"/>
        <c:crosses val="autoZero"/>
        <c:auto val="1"/>
        <c:lblAlgn val="ctr"/>
        <c:lblOffset val="100"/>
        <c:noMultiLvlLbl val="0"/>
      </c:catAx>
      <c:valAx>
        <c:axId val="9660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04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15B-EA23-440C-8265-349FB8DF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B9D-D2FD-49A5-BCDE-547B0FB8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6FE-8AD5-40A5-B168-E33D0984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654-1884-463C-BCCF-47C87BC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92A-DA8B-4731-9395-29A51CA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715-CFCD-4BD4-9BB2-410FD1D3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373-24E6-44A6-9E06-3D1B8FA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C05-5768-46AF-A9C4-5CA502E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ED-3726-483A-8D0C-E02EDBB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F8F-7A8D-4760-B087-0EB302A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060-308E-41A8-BCC5-F6B229B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EFD-DF9C-484C-A0FD-C9D83B7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7361F-4839-4FCD-91AD-F768F4CEA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