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99957"/>
        <c:axId val="68994911"/>
      </c:barChart>
      <c:catAx>
        <c:axId val="45199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94911"/>
        <c:crosses val="autoZero"/>
        <c:auto val="1"/>
        <c:lblAlgn val="ctr"/>
        <c:lblOffset val="100"/>
        <c:noMultiLvlLbl val="0"/>
      </c:catAx>
      <c:valAx>
        <c:axId val="68994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9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350-52B8-4087-A750-1A17147E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00D-074B-4819-8CBB-7B85F555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2F9-1A60-43BC-9DD2-F55C2EC1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4CE-BC5D-495D-A887-BF8BE261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EF3-2C11-4753-B150-20D2786C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E43-CFFC-4988-9D58-49B3ADA5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960-A35E-4DB6-B5AD-CD39A03A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2EB-6234-486A-A864-DF0462B0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CC8-3CD8-4FBF-BFA2-108668DB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E64-381D-4D83-9FB2-3AD93E5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553-E651-4CA0-BDBE-3E3EC9F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A89-3D5F-4ADA-A728-8E35DF2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AA022-0BC0-4E3E-AEE5-D489A64D42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