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22070"/>
        <c:axId val="71684237"/>
      </c:barChart>
      <c:catAx>
        <c:axId val="85122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84237"/>
        <c:crosses val="autoZero"/>
        <c:auto val="1"/>
        <c:lblAlgn val="ctr"/>
        <c:lblOffset val="100"/>
        <c:noMultiLvlLbl val="0"/>
      </c:catAx>
      <c:valAx>
        <c:axId val="71684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22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E7E-ABAA-4D60-BECD-8B7BF593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546-377B-4953-9D18-FDD19DD4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8B3-F753-4E79-A757-B7114CE5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669-EE04-458F-88B7-D671A9DB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2C6-FA1B-43B2-BB5F-DD1FDBDF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1A5-4E9A-4227-AA71-256743FE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EF5-83E5-4FD9-A844-27C8B926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0D8-D935-42D0-B300-B52D8445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C6D-33B6-4D83-A592-B18B6AE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DDC-D499-4958-8FDC-01C82D6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C20-4BDA-412A-BEA6-A0CD47F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0B9-379B-4BD1-9C09-4CC13C7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867DC-55F4-4F7A-83B0-DDBAF0649D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